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image12.jpeg" ContentType="image/jpeg"/>
  <Override PartName="/ppt/media/image5.gif" ContentType="image/gif"/>
  <Override PartName="/ppt/media/image4.gif" ContentType="image/gif"/>
  <Override PartName="/ppt/media/image21.png" ContentType="image/png"/>
  <Override PartName="/ppt/media/image19.gif" ContentType="image/gif"/>
  <Override PartName="/ppt/media/image1.gif" ContentType="image/gif"/>
  <Override PartName="/ppt/media/image20.png" ContentType="image/png"/>
  <Override PartName="/ppt/media/image18.png" ContentType="image/png"/>
  <Override PartName="/ppt/media/image15.png" ContentType="image/png"/>
  <Override PartName="/ppt/media/image7.gif" ContentType="image/gif"/>
  <Override PartName="/ppt/media/image16.png" ContentType="image/png"/>
  <Override PartName="/ppt/media/image13.gif" ContentType="image/gif"/>
  <Override PartName="/ppt/media/Merry%20Gentlemen.wav" ContentType="audio/x-wav"/>
  <Override PartName="/ppt/media/image17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C1D2-B255-4269-BA6B-D433EEA65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8504-7D2F-4F76-9213-53D3CFBFE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8CA-F1B8-4CCE-8AB6-7CB99D9C3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F78-EF9B-4912-9F02-81478C6D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7D4-CF48-419B-874E-8FA45C89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575D-88C8-4949-9983-D46B4945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8E73-28B0-4EC6-8807-0C2CC2C5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147-1A82-48E4-95BF-170971ED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8FEE-CBB3-48CE-98DD-C7B2B0E4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462-1D1B-426E-9F42-D96A5FA1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E2C4-FECC-4DC9-9CFA-09E4D844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3743-015B-4376-A6E0-7A6768D5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CE1-D95E-4F0E-8A57-0DD6645C9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Merry%20Gentlemen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8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000" spc="-1" strike="noStrike">
                <a:solidFill>
                  <a:srgbClr val="33cc33"/>
                </a:solidFill>
                <a:latin typeface="Monotype Corsiva"/>
              </a:rPr>
              <a:t>God rest ye merry Gentlem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How that in Betlehem was bor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8964720" cy="6480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26920" y="69228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76500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SON OF GOD BY NA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63640" y="5546880"/>
            <a:ext cx="5257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TIDINGS OF CONFORT AND J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ORT AND JO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 TIDINGS OF CONFORT AND JO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92360" y="378936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19280" y="3500280"/>
            <a:ext cx="187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HEPHERDS AT THOSE TI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48000" y="5300640"/>
            <a:ext cx="374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JOICED MUCH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780000" y="573408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JOICED MUCH IN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42920" y="83664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1341360"/>
            <a:ext cx="309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LEFT  THEIR FLOCKS A FEEDING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516720" y="620640"/>
            <a:ext cx="24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EMPEST STORN AND WIND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47640" y="5002200"/>
            <a:ext cx="532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cc33"/>
                </a:solidFill>
                <a:latin typeface="Arial"/>
              </a:rPr>
              <a:t>And went to Betlheem straigh 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333360"/>
            <a:ext cx="26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322200"/>
            <a:ext cx="252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 TIDINGS OF COMFORT AND JOY CONFORT AND JOY O TIDINGS OF CONFOT AND J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4920" y="2349000"/>
            <a:ext cx="8435880" cy="17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5400" spc="-1" strike="noStrike">
                <a:solidFill>
                  <a:srgbClr val="fb3333"/>
                </a:solidFill>
                <a:latin typeface="Monotype Corsiva"/>
              </a:rPr>
              <a:t>God rest ye merry, gentlemen,</a:t>
            </a:r>
            <a:br>
              <a:rPr sz="5400"/>
            </a:br>
            <a:r>
              <a:rPr b="1" i="1" lang="es-ES" sz="5400" spc="-1" strike="noStrike">
                <a:solidFill>
                  <a:srgbClr val="fb3333"/>
                </a:solidFill>
                <a:latin typeface="Monotype Corsiva"/>
              </a:rPr>
              <a:t>Let nothing you dismay,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1000">
    <p:split dir="out" orient="horz"/>
    <p:sndAc>
      <p:stSnd>
        <p:snd r:embed="rId2" name="Merry%20Gentlemen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b3333"/>
                </a:solidFill>
                <a:latin typeface="Monotype Corsiva"/>
              </a:rPr>
              <a:t>Remember Christ our Saviour, </a:t>
            </a:r>
            <a:br>
              <a:rPr sz="4800"/>
            </a:br>
            <a:r>
              <a:rPr b="1" i="1" lang="es-ES" sz="4800" spc="-1" strike="noStrike">
                <a:solidFill>
                  <a:srgbClr val="fb3333"/>
                </a:solidFill>
                <a:latin typeface="Monotype Corsiva"/>
              </a:rPr>
              <a:t>Was born on Christmas day . . .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68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768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" dur="768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333399"/>
                </a:solidFill>
                <a:latin typeface="Monotype Corsiva"/>
              </a:rPr>
              <a:t>To save us all from Satan's power, </a:t>
            </a:r>
            <a:br>
              <a:rPr sz="4800"/>
            </a:br>
            <a:r>
              <a:rPr b="1" i="1" lang="es-ES" sz="4800" spc="-1" strike="noStrike">
                <a:solidFill>
                  <a:srgbClr val="333399"/>
                </a:solidFill>
                <a:latin typeface="Monotype Corsiva"/>
              </a:rPr>
              <a:t>When we were gone astray,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Monotype Corsiva"/>
              </a:rPr>
              <a:t>Oh tidings of comfort and joy, </a:t>
            </a:r>
            <a:br>
              <a:rPr sz="4800"/>
            </a:br>
            <a:r>
              <a:rPr b="1" i="1" lang="es-ES" sz="4800" spc="-1" strike="noStrike">
                <a:solidFill>
                  <a:srgbClr val="ffffff"/>
                </a:solidFill>
                <a:latin typeface="Monotype Corsiva"/>
              </a:rPr>
              <a:t>Comfort and joy, </a:t>
            </a:r>
            <a:br>
              <a:rPr sz="4800"/>
            </a:br>
            <a:r>
              <a:rPr b="1" i="1" lang="es-ES" sz="4800" spc="-1" strike="noStrike">
                <a:solidFill>
                  <a:srgbClr val="ffffff"/>
                </a:solidFill>
                <a:latin typeface="Monotype Corsiva"/>
              </a:rPr>
              <a:t>Oh tidings of comfort and joy . 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wheel spokes="1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b3333"/>
                </a:solidFill>
                <a:latin typeface="Monotype Corsiva"/>
              </a:rPr>
              <a:t>From God our heavenly father,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blinds dir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b3333"/>
                </a:solidFill>
                <a:latin typeface="Monotype Corsiva"/>
              </a:rPr>
              <a:t>A blessed Angel came,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push dir="r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800" spc="-1" strike="noStrike">
                <a:solidFill>
                  <a:srgbClr val="fb3333"/>
                </a:solidFill>
                <a:latin typeface="Monotype Corsiva"/>
              </a:rPr>
              <a:t>And unto certain Shepherds,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lu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008000"/>
                </a:solidFill>
                <a:latin typeface="Monotype Corsiva"/>
              </a:rPr>
              <a:t>Brought tidings of the same . .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715160" y="5373720"/>
            <a:ext cx="1428840" cy="1095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1619280" cy="11718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cut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4:22:15Z</dcterms:created>
  <dc:creator>pc10</dc:creator>
  <dc:description/>
  <dc:language>en-US</dc:language>
  <cp:lastModifiedBy>pc10</cp:lastModifiedBy>
  <dcterms:modified xsi:type="dcterms:W3CDTF">2011-12-21T15:34:50Z</dcterms:modified>
  <cp:revision>7</cp:revision>
  <dc:subject/>
  <dc:title>God rest ye merry Gentlemen</dc:title>
</cp:coreProperties>
</file>